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297B-DCDD-40FD-8C98-2B0F317C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4B7E-5B21-4D35-8068-80193BC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61A6-0E65-4ECE-ACBC-D0837939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29D1-92C4-470B-9CAD-BCC69CEE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E71-D02B-4195-891B-E9A99B7A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7A01-22F1-4BC3-A0CB-4D0F9D32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D373-5D27-420D-BA4E-15338DC1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3F6-C993-46E1-A5A8-265BD008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E6EB-4F41-45A5-A21E-E17116D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411F-270A-4D98-B23A-B5477FDD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126B-CFF7-41C1-9B44-5C4EDF0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02ED-DC59-40D0-9EB5-1AFE275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1418-3AD1-4381-8D5C-290BDFD3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EBC2-3A3E-4E65-8527-D456750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F5DE-24CE-4288-887A-51E67B8B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20C6-1AF2-46B2-830F-EE077BA6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73E-2965-4515-9EA4-72D455D9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6B95-A4B7-43BD-8826-432DD556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A51D-06DE-4020-B52C-ECF61915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9CF8-B685-499B-93EA-65BCB09F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5693-6F34-4723-9403-021B06C7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0B10-4B43-493E-9837-536128C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96C3-5111-4CF8-A22F-9368E61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30F0-204D-4A24-BDBC-89FF3D1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947-D66C-462E-9D76-1B53BB8B268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F855-0DE4-48A9-BB3D-BE8006EDB22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30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Напред вси за Ису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оини Него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оругвата* Му царс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соко дръжте ви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м Той пред вас ще ид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чалник в Своя б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победа  след по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пред ще води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апред вси за Исус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рагът ви силен 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лезте с храброст, с верн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ъс търпени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Бога всеоръжн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земете в таз войн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всяка плътска сил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 недостатъч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апред вси за Исус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дете трезве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Бога уповай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не на себе си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щит вземете вяр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еч пък - ист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оз свят да победи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лътта и Сата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Напред вси за Исус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дълъг е тоз б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победа верний ратн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увенчае То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първо труд и мъ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ежко войнство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нес подвиг труден, утр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вала и тържеств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6:52Z</dcterms:modified>
  <cp:revision>145</cp:revision>
  <dc:subject/>
  <dc:title>Slide 1</dc:title>
</cp:coreProperties>
</file>